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5A0-6592-4DCD-8F14-9A099FD4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8FD-B1F6-4128-90F4-018B7F8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CC6-9F46-4FDB-BD2B-2EB5A1C7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B8D-26A3-493B-B319-F4FB7E4B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F369-7E47-450E-B390-78BD0A4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3A6-1B19-46AE-9B8C-2BA3ACE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B5BE-3A9E-4834-835B-E73C9175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8E5-2AAB-4E65-97F7-3668CA0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DE8B-D35A-4872-BDAF-277B45A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2169-F7B7-47FC-9210-1FF9A567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519-E744-44B1-A5FB-907C0E6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520-8C91-493F-B92D-25D16AC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F12-0A13-4D3B-9667-86EFC4D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18A-5E07-464C-8B77-93E31CB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CA4-572A-4596-9CD5-4E28F5C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97F-79FD-42F0-97C0-D89D9F5C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4FA-955A-4191-8D31-3B962C17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AB4-B1D3-433B-8FAC-70284A0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D5D-B615-42C2-9A44-B6D9E512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180-E419-485E-A3E7-ECEEEEC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CB2-AB1C-4192-A877-37153D28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DD7-687F-468E-B345-60702F3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1AE-E55E-47E2-90A4-1366F67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3B4-75BB-4747-9FEB-C77973F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7C66-59C0-4CDC-96D1-65CFF1FB7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6D0B-901E-4E06-9F9F-0E7CFDD5A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arm3.static.flickr.com/2223/2308602472_014fec9bef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Burrrrrr… The Climate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ison Della Bar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aron 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/>
          </p:cNvPr>
          <p:cNvSpPr/>
          <p:nvPr/>
        </p:nvSpPr>
        <p:spPr>
          <a:xfrm>
            <a:off x="0" y="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8406"/>
                </a:moveTo>
                <a:lnTo>
                  <a:pt x="16862" y="8406"/>
                </a:lnTo>
                <a:lnTo>
                  <a:pt x="21283" y="3794"/>
                </a:lnTo>
                <a:lnTo>
                  <a:pt x="21283" y="17806"/>
                </a:lnTo>
                <a:lnTo>
                  <a:pt x="16862" y="13194"/>
                </a:lnTo>
                <a:lnTo>
                  <a:pt x="12431" y="13194"/>
                </a:lnTo>
                <a:close/>
              </a:path>
              <a:path fill="darken" w="38876" h="21600">
                <a:moveTo>
                  <a:pt x="22937" y="10800"/>
                </a:moveTo>
                <a:lnTo>
                  <a:pt x="26444" y="10800"/>
                </a:lnTo>
              </a:path>
              <a:path fill="darken" w="38876" h="21600">
                <a:moveTo>
                  <a:pt x="22937" y="8406"/>
                </a:moveTo>
                <a:lnTo>
                  <a:pt x="26444" y="5639"/>
                </a:lnTo>
              </a:path>
              <a:path fill="darken" w="38876" h="21600">
                <a:moveTo>
                  <a:pt x="22937" y="13194"/>
                </a:moveTo>
                <a:lnTo>
                  <a:pt x="26444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00208 0.04024 C 0.00903 0.02683 0.01615 0.01226 0.02309 -0.00647 C 0.04201 -0.05965 0.04705 -0.11167 0.03316 -0.11976 C 0.0191 -0.12901 -0.00799 -0.09179 -0.02691 -0.03838 C -0.03698 -0.0104 -0.04288 0.01619 -0.04497 0.0363 C -0.04792 0.05226 -0.04896 0.06821 -0.04896 0.08694 C -0.04896 0.14683 -0.03594 0.1963 -0.02083 0.1963 C -0.0059 0.1963 0.00712 0.14683 0.00712 0.08694 C 0.00712 0.05896 0.00417 0.03214 -0.00087 0.01365 C -0.00295 -0.00254 -0.00799 -0.01965 -0.01389 -0.03699 C -0.03385 -0.09179 -0.06094 -0.12901 -0.075 -0.11976 C -0.08889 -0.11052 -0.08385 -0.05965 -0.06389 -0.00508 C -0.0559 0.02035 -0.04497 0.04162 -0.03385 0.05619 C -0.02587 0.0696 -0.01684 0.08162 -0.00486 0.09365 C 0.03108 0.13226 0.06701 0.1496 0.07708 0.13365 C 0.08611 0.11746 0.06615 0.07353 0.03003 0.0363 C 0.0151 0.02035 -0.000869999999999999 0.00833 -0.01389 0.00024 C -0.02587 -0.00786 -0.04097 -0.01433 -0.05694 -0.01849 C -0.10087 -0.03167 -0.13889 -0.02774 -0.14184 -0.00647 C -0.14583 0.01365 -0.11285 0.04024 -0.06892 0.05365 C -0.04896 0.05896 -0.02986 0.06151 -0.01493 0.06035 C -0.00191 0.06035 0.01215 0.05758 0.02708 0.05365 C 0.07101 0.04024 0.10417 0.01226 0.1 -0.00786 C 0.09705 -0.02774 0.05903 -0.03306 0.0151 -0.01965 C -0.0059 -0.01317 -0.025 -0.0037 -0.03785 0.00694 C -0.04896 0.0148 -0.0599 0.02428 -0.07187 0.0363 C -0.10694 0.07492 -0.12795 0.11746 -0.11788 0.13365 C -0.10885 0.1496 -0.07187 0.13226 -0.03698 0.0948 C -0.01997 0.0763 -0.0059 0.05758 0.00208 0.04024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Overall Clim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e overall climate of Russia is cold… very cold. The land of Russia is covered in snow,ice,and a layer of frost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roadway"/>
              </a:rPr>
              <a:t>permafrost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 the tundra climate. Russia is covered in snow for 40-240+ days a year. Though the winter is cold and snowy, the summers are warm and rainy. The climate in Russia is like paradise… not. *cue laugh (hahaha)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St. Basil's Christian Cathedral in Winter Snow, Moscow, Russia"/>
          <p:cNvPicPr/>
          <p:nvPr/>
        </p:nvPicPr>
        <p:blipFill>
          <a:blip r:embed="rId2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Broadway"/>
              </a:rPr>
              <a:t>Rain in</a:t>
            </a:r>
            <a:r>
              <a:rPr b="0" lang="en-US" sz="4000" spc="-1" strike="noStrike">
                <a:solidFill>
                  <a:srgbClr val="ee941c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cc"/>
                </a:solidFill>
                <a:latin typeface="Broadway"/>
              </a:rPr>
              <a:t>Summer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42200" y="548640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Broadway"/>
              </a:rPr>
              <a:t>Snow in w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5"/>
          </p:cNvPr>
          <p:cNvSpPr/>
          <p:nvPr/>
        </p:nvSpPr>
        <p:spPr>
          <a:xfrm>
            <a:off x="8381880" y="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8406"/>
                </a:moveTo>
                <a:lnTo>
                  <a:pt x="12848" y="8406"/>
                </a:lnTo>
                <a:lnTo>
                  <a:pt x="17270" y="3794"/>
                </a:lnTo>
                <a:lnTo>
                  <a:pt x="17270" y="17806"/>
                </a:lnTo>
                <a:lnTo>
                  <a:pt x="12848" y="13194"/>
                </a:lnTo>
                <a:lnTo>
                  <a:pt x="8418" y="13194"/>
                </a:lnTo>
                <a:close/>
              </a:path>
              <a:path fill="darken" w="30849" h="21600">
                <a:moveTo>
                  <a:pt x="18923" y="10800"/>
                </a:moveTo>
                <a:lnTo>
                  <a:pt x="22431" y="10800"/>
                </a:lnTo>
              </a:path>
              <a:path fill="darken" w="30849" h="21600">
                <a:moveTo>
                  <a:pt x="18923" y="8406"/>
                </a:moveTo>
                <a:lnTo>
                  <a:pt x="22431" y="5639"/>
                </a:lnTo>
              </a:path>
              <a:path fill="darken" w="30849" h="21600">
                <a:moveTo>
                  <a:pt x="18923" y="13194"/>
                </a:moveTo>
                <a:lnTo>
                  <a:pt x="22431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roadway"/>
              </a:rPr>
              <a:t>Tundra Clima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definition of a tundra climate is a place where trees and growth (plants, animals, etc.) is prevented. Since a tundra climate consists of a cold temperature and little life , Russia is misfortunate to have this a part of their count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695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arm to hot dry summers and (very) cold winter with temperatures of -30 degrees and lower and sometimes heavy snowf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ometimes very strong easterly winds, called Buran can occur, bringing freezing cold temperatures and snowst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53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401940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-360"/>
            <a:ext cx="854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NOW SCULPTURES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Awesome snow sculpture Seen On www.coolpicturegallery.us"/>
          <p:cNvPicPr/>
          <p:nvPr/>
        </p:nvPicPr>
        <p:blipFill>
          <a:blip r:embed="rId5"/>
          <a:stretch/>
        </p:blipFill>
        <p:spPr>
          <a:xfrm>
            <a:off x="6172200" y="373392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wesome snow sculpture Seen On www.coolpicturegallery.us"/>
          <p:cNvPicPr/>
          <p:nvPr/>
        </p:nvPicPr>
        <p:blipFill>
          <a:blip r:embed="rId6"/>
          <a:stretch/>
        </p:blipFill>
        <p:spPr>
          <a:xfrm>
            <a:off x="3809880" y="3581280"/>
            <a:ext cx="2667240" cy="32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END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0" y="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8406"/>
                </a:moveTo>
                <a:lnTo>
                  <a:pt x="15421" y="8406"/>
                </a:lnTo>
                <a:lnTo>
                  <a:pt x="19842" y="3794"/>
                </a:lnTo>
                <a:lnTo>
                  <a:pt x="19842" y="17806"/>
                </a:lnTo>
                <a:lnTo>
                  <a:pt x="15421" y="13194"/>
                </a:lnTo>
                <a:lnTo>
                  <a:pt x="10991" y="13194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25004" y="10800"/>
                </a:lnTo>
              </a:path>
              <a:path fill="darken" w="35994" h="21600">
                <a:moveTo>
                  <a:pt x="21496" y="8406"/>
                </a:moveTo>
                <a:lnTo>
                  <a:pt x="25004" y="5639"/>
                </a:lnTo>
              </a:path>
              <a:path fill="darken" w="35994" h="21600">
                <a:moveTo>
                  <a:pt x="21496" y="13194"/>
                </a:moveTo>
                <a:lnTo>
                  <a:pt x="25004" y="15961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3:52Z</dcterms:created>
  <dc:creator> </dc:creator>
  <dc:description/>
  <dc:language>en-US</dc:language>
  <cp:lastModifiedBy> </cp:lastModifiedBy>
  <dcterms:modified xsi:type="dcterms:W3CDTF">2010-12-20T19:21:25Z</dcterms:modified>
  <cp:revision>5</cp:revision>
  <dc:subject/>
  <dc:title>Burrrrrr… The Climate of Russia</dc:title>
</cp:coreProperties>
</file>